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BBC-2E5B-47EF-959A-851FC0F9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8C3-627F-4EFE-87D1-E7200A0A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859-26D3-47D0-8C65-27178CFE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82E-9F0B-4932-B56D-D76EA40D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254-6356-4CFB-BA79-937E113F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867-9CFC-47AD-91C9-D30E0E6E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915-93EC-4823-9EFA-904906C4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2BE-CF86-412F-BB04-37598EAC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958-6B53-45B4-B0F8-D7F03EEE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048-3057-4C53-A5A7-BA674D4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DD7-3936-4BEA-A8D0-A82D35E5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CBE-3D92-4214-869D-FC9C3917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4D84-3AF7-479A-8848-EDBF9D12A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260280"/>
            <a:ext cx="640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TINA PARA PRODUCIR TELA TEÑ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989000"/>
            <a:ext cx="4608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ÓN : CREAR PARTE SALID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IVO : CONSUMO ORDEN PRODUCCIÓ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IGO : TELA CRUDA RPX-12027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EGA : TELAS KREI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907920"/>
            <a:ext cx="45356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ÓN : CREAR ORDEN DE PRODUCCIÓ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IVO : REPOSICIÓN DE INVENTARI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IGO : TELA TEÑIDA RPX-12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 : SE ESTIMA QUE LA MERMA ES DEL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068640"/>
            <a:ext cx="4608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ÓN : CREAR PARTE DE ENTRADA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IVO : RECEPCIÓN DE SERVICIO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IGO : SERVICIOS DE TEÑIDO RPX-11679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EGA : SERVICIOS DE TEÑ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5229360"/>
            <a:ext cx="4608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ÓN : CREAR PARTE DE ENTRAD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IVO : ALTA ORDEN DE PRODUCCIÓ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IGO : TELA TEÑIDA RPX-12144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EGA : TELAS LOS INDUST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076640"/>
            <a:ext cx="4608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ÓN : CREAR PARTE SALID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IVO : CONSUMO ORDEN PRODUCCIÓ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IGO : SERVICIOS DE TEÑIDO RPX-11679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EGA : SERVICIOS DE TEÑ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19640" y="1125360"/>
            <a:ext cx="2303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ELA LOBOS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64000" y="2205000"/>
            <a:ext cx="2232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ELA LOBOS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3213000"/>
            <a:ext cx="223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ELO CANTEROS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4149720"/>
            <a:ext cx="2232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RCELA LOBOS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5373720"/>
            <a:ext cx="223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ELA LOB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9:08:28Z</dcterms:created>
  <dc:creator>nn</dc:creator>
  <dc:description/>
  <dc:language>en-US</dc:language>
  <cp:lastModifiedBy>nn</cp:lastModifiedBy>
  <dcterms:modified xsi:type="dcterms:W3CDTF">2012-01-17T20:09:14Z</dcterms:modified>
  <cp:revision>11</cp:revision>
  <dc:subject/>
  <dc:title>Diapositiva 1</dc:title>
</cp:coreProperties>
</file>